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F83-2846-4EF8-9059-E52CDEFC1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322F-F515-459A-BDAF-A8B83DA05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E55B-F868-484F-9C9C-01AC661A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9993-7775-40E3-B1CE-6058F4576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82A3C-F497-4910-8BF7-6F42BEF0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35A7-4F97-409E-AE13-9E082E2B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4F7D-7420-42B0-83B2-5009E4A2C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CD04-AEC7-4447-8143-72021920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0189-66FA-437A-80BB-9574C44A0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1392A-9904-4696-A9C8-D4BE35A8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7A12-CE30-482E-9384-1DE0BF10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3533-0568-4039-9EBE-190B41F44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6257-B912-46B4-BCEA-61761FDF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F238-F98F-4997-BAEB-6ED52EA00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661C-4824-4108-A90B-D807C412E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2FB-2CC0-4181-A172-BD7684B6B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76F7-C62F-45F6-BA34-2E2BD4A0A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63AAD-E905-4B0C-8004-437E7812B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544C-8EF2-4D46-95E7-63A5F4ED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A626-83D1-4953-891B-BF62A08B5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D020-6F84-44D0-8B15-48C72020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5669-40D1-4DF0-893A-ADC98695B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9EC1-E2CD-478F-B32E-17B5F4B0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4ED0-2D19-44AC-9DA0-045A6A6F9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0FA2-FCF7-4885-8FD0-BD46C63410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005a58"/>
                </a:gs>
                <a:gs pos="50000">
                  <a:srgbClr val="2d7775"/>
                </a:gs>
                <a:gs pos="100000">
                  <a:srgbClr val="005a5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009e9a"/>
                </a:gs>
                <a:gs pos="100000">
                  <a:srgbClr val="005a5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005a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9e9a"/>
                  </a:gs>
                  <a:gs pos="100000">
                    <a:srgbClr val="005a58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5a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68F9-94E6-4004-B3F4-AC4BF63728E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UD 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203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DELO EDUCACIÓN DEPOR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ÍNDICE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Introducción voleibo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resentación Modelo Educación Depor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laboración de equipos y selección de capita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5770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ncha dividid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onen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Objetivo del ju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Número de contactos con el bal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Puntuació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Modalidad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ompeticio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6" name="" descr="Europei di pallavolo 2005 - Italia-Russia.jpg"/>
          <p:cNvPicPr/>
          <p:nvPr/>
        </p:nvPicPr>
        <p:blipFill>
          <a:blip r:embed="rId8"/>
          <a:stretch/>
        </p:blipFill>
        <p:spPr>
          <a:xfrm>
            <a:off x="6443640" y="1700280"/>
            <a:ext cx="216072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ebe4"/>
                </a:solidFill>
                <a:latin typeface="Arial"/>
              </a:rPr>
              <a:t>VOLEIBOL</a:t>
            </a:r>
            <a:endParaRPr b="0" lang="en-US" sz="44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2819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Campo de juego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écn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Tácti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4"/>
          <a:stretch/>
        </p:blipFill>
        <p:spPr>
          <a:xfrm>
            <a:off x="3492360" y="1773360"/>
            <a:ext cx="2648160" cy="41400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6326280" y="1773360"/>
            <a:ext cx="2624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Experiencia deportiva auténtica… ¿qué se hace en los deport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Participan equipos (role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Entrena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Compiten (pretemporada, temporada oficia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Verdana"/>
              </a:rPr>
              <a:t>Otros eventos y actividades (records y estadísticas, diplomas, fiesta…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LES: Jugadores y capi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RAFT: p.e. Baloncesto (loterí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258920" y="3141720"/>
          <a:ext cx="5779800" cy="2636280"/>
        </p:xfrm>
        <a:graphic>
          <a:graphicData uri="http://schemas.openxmlformats.org/drawingml/2006/table">
            <a:tbl>
              <a:tblPr/>
              <a:tblGrid>
                <a:gridCol w="1154520"/>
                <a:gridCol w="1156680"/>
                <a:gridCol w="1155960"/>
                <a:gridCol w="1156680"/>
                <a:gridCol w="1155960"/>
              </a:tblGrid>
              <a:tr h="63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edro 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é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ejandro 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lejandro 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ntonio h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abrie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co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a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octavi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 pil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ui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ti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omi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 cor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au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Marí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e9a"/>
            </a:gs>
            <a:gs pos="100000">
              <a:srgbClr val="005a58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5ebe4"/>
                </a:solidFill>
                <a:latin typeface="Arial"/>
              </a:rPr>
              <a:t>MODELO EDUCACIÓN DEPORTIVA</a:t>
            </a:r>
            <a:endParaRPr b="0" lang="en-US" sz="4000" spc="-1" strike="noStrike">
              <a:solidFill>
                <a:srgbClr val="c5ebe4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ROLES: Jugadores y capitá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Verdana"/>
              </a:rPr>
              <a:t>DRAFT: p.e. Baloncesto (loterí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258920" y="3068640"/>
            <a:ext cx="644364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4T19:04:12Z</dcterms:created>
  <dc:creator>Ricardo</dc:creator>
  <dc:description/>
  <dc:language>en-US</dc:language>
  <cp:lastModifiedBy>Ricardo</cp:lastModifiedBy>
  <dcterms:modified xsi:type="dcterms:W3CDTF">2013-01-16T07:03:01Z</dcterms:modified>
  <cp:revision>3</cp:revision>
  <dc:subject/>
  <dc:title>UD VOLEIBOL</dc:title>
</cp:coreProperties>
</file>